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5.gif" ContentType="image/gif"/>
  <Override PartName="/ppt/media/image19.png" ContentType="image/png"/>
  <Override PartName="/ppt/media/image15.gif" ContentType="image/gif"/>
  <Override PartName="/ppt/media/image18.gif" ContentType="image/gif"/>
  <Override PartName="/ppt/media/image16.png" ContentType="image/png"/>
  <Override PartName="/ppt/media/image17.png" ContentType="image/png"/>
  <Override PartName="/ppt/media/image14.gif" ContentType="image/gif"/>
  <Override PartName="/ppt/media/image1.gif" ContentType="image/gif"/>
  <Override PartName="/ppt/media/image2.gif" ContentType="image/gif"/>
  <Override PartName="/ppt/media/image11.png" ContentType="image/png"/>
  <Override PartName="/ppt/media/image3.gif" ContentType="image/gif"/>
  <Override PartName="/ppt/media/image20.jpeg" ContentType="image/jpeg"/>
  <Override PartName="/ppt/media/image12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BB6-3219-4995-A356-4FACE1E7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ACEC-3445-418C-A363-831AD8CE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8E6-B493-4CD1-87A0-3932D94C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BEE-BA96-4AC7-85A7-0DE9406F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C100-C496-43E6-A0BE-C4049C11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800-5222-4B3D-9BF4-FE56D4B7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CF88-BF61-42F2-8562-57CD5794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541-5F44-428E-BE5D-998C8AD3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6669-3BB5-405A-B7BD-69733C0C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D018-CEC4-4CCC-861A-AF6AC2CE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B22E-9119-4F96-87FD-39DCF856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5AD-19A0-456B-B211-58A64C00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AE2B-3E1B-4512-8D2B-9E9DA3490D85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3.gif"/><Relationship Id="rId10" Type="http://schemas.openxmlformats.org/officeDocument/2006/relationships/image" Target="../media/image9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286160" y="2905200"/>
            <a:ext cx="571680" cy="523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227640" y="4653000"/>
            <a:ext cx="571680" cy="523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219640" y="4653000"/>
            <a:ext cx="571680" cy="523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4286160" y="3860640"/>
            <a:ext cx="571680" cy="524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724360" y="4653000"/>
            <a:ext cx="571680" cy="523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4788000" y="3860640"/>
            <a:ext cx="571320" cy="524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4572000" y="4653000"/>
            <a:ext cx="571680" cy="523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2987640" y="1700280"/>
            <a:ext cx="571680" cy="523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3780000" y="3860640"/>
            <a:ext cx="571320" cy="524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3492360" y="1700280"/>
            <a:ext cx="571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6804000" y="4653000"/>
            <a:ext cx="571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>
            <a:off x="5292720" y="3860640"/>
            <a:ext cx="57168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telescopio"/>
          <p:cNvPicPr/>
          <p:nvPr/>
        </p:nvPicPr>
        <p:blipFill>
          <a:blip r:embed="rId2"/>
          <a:stretch/>
        </p:blipFill>
        <p:spPr>
          <a:xfrm>
            <a:off x="0" y="4057560"/>
            <a:ext cx="3238560" cy="2800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4680" y="836640"/>
            <a:ext cx="89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um país distante viviam três homens sábios que estudavam as estrelas e o cé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 rot="886800">
            <a:off x="5000760" y="1069920"/>
            <a:ext cx="2670120" cy="82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00" y="6216480"/>
            <a:ext cx="77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 dia viram uma nova estrela muito mais brilhante que as resta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perceberam que algo especial tinha acontec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2680" y="3933720"/>
            <a:ext cx="4189320" cy="2665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 rot="886800">
            <a:off x="5076720" y="2060640"/>
            <a:ext cx="2670120" cy="82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7440" y="476280"/>
            <a:ext cx="88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s três Reis Magos, Gaspar, Melchior e Baltazar, levaram presentes e segui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estrela que os guiou até à cidade de Belé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16720" y="1197000"/>
            <a:ext cx="1082520" cy="1120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2400" y="189000"/>
            <a:ext cx="84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do a estrela parou, os três Reis Magos souberam que Jesus estava 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3429000" cy="2857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 rot="886800">
            <a:off x="4355640" y="980640"/>
            <a:ext cx="3994200" cy="1227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73920" y="260280"/>
            <a:ext cx="34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ão, entraram no estábul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60400" y="0"/>
            <a:ext cx="5621400" cy="6648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3080" y="6332400"/>
            <a:ext cx="881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o verem Jesus, ajoelharam e ofereceram-lhe o que tinham trazido: ouro, incenso e mir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9:33:23Z</dcterms:created>
  <dc:creator>op</dc:creator>
  <dc:description/>
  <dc:language>en-US</dc:language>
  <cp:lastModifiedBy>RAQUELmota</cp:lastModifiedBy>
  <dcterms:modified xsi:type="dcterms:W3CDTF">2008-09-06T12:30:06Z</dcterms:modified>
  <cp:revision>2</cp:revision>
  <dc:subject/>
  <dc:title>Diapositivo 1</dc:title>
</cp:coreProperties>
</file>