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1CAF-ED5C-4239-9C94-D9D4FED39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7315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4156920"/>
            <a:ext cx="7315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54F4-CA65-477D-A271-2225F867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35697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1680" y="2286000"/>
            <a:ext cx="35697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4156920"/>
            <a:ext cx="35697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1680" y="4156920"/>
            <a:ext cx="35697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842E-82BC-4FB9-A7BE-124019E0E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23551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6200" y="2286000"/>
            <a:ext cx="23551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9400" y="2286000"/>
            <a:ext cx="23551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4156920"/>
            <a:ext cx="23551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6200" y="4156920"/>
            <a:ext cx="23551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9400" y="4156920"/>
            <a:ext cx="23551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4ED5-C9A7-44C8-86E4-D3ADC498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5F30-DF48-493D-888E-FAA10969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2286000"/>
            <a:ext cx="7315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7638-A282-4599-9FEA-BE8743F5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7315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37A5-AEC8-453D-B1B5-EA9E9654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35697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1680" y="2286000"/>
            <a:ext cx="35697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C458-5C53-4FAA-B521-D75647F9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839E-DBC5-4638-89DA-DF46AA79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3000" y="533160"/>
            <a:ext cx="73152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4E55-AF65-4F3A-8A84-5406758D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35697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1680" y="2286000"/>
            <a:ext cx="35697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4156920"/>
            <a:ext cx="35697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D1E0-68E5-4F57-A4E2-BA10635C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2286000"/>
            <a:ext cx="7315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5445-3B2B-4CF1-A118-A24CD0B8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35697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1680" y="2286000"/>
            <a:ext cx="35697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91680" y="4156920"/>
            <a:ext cx="35697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8E17-5F82-4C0A-AA10-A5111C5E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35697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1680" y="2286000"/>
            <a:ext cx="35697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156920"/>
            <a:ext cx="7315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7310-0E62-44D4-BD85-06FFC638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7315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4156920"/>
            <a:ext cx="7315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4D8C-0179-469A-B540-67CE62E8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35697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1680" y="2286000"/>
            <a:ext cx="35697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4156920"/>
            <a:ext cx="35697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91680" y="4156920"/>
            <a:ext cx="35697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C3CB-61D8-4B08-A8D8-F770AAEEC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23551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16200" y="2286000"/>
            <a:ext cx="23551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89400" y="2286000"/>
            <a:ext cx="23551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4156920"/>
            <a:ext cx="23551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16200" y="4156920"/>
            <a:ext cx="23551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89400" y="4156920"/>
            <a:ext cx="23551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BFB4-CC4B-4B0F-89FD-FF3F4E6F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7315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269A-94DD-4CE1-8BA9-D6293DD8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35697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1680" y="2286000"/>
            <a:ext cx="35697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F9F1-3FCF-4FA0-A4BE-8D9E4A12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EC5E-8E8B-4066-8C03-A1B95140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533160"/>
            <a:ext cx="73152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D71C-1FF7-47DD-8A7D-D7BB0344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35697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1680" y="2286000"/>
            <a:ext cx="35697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4156920"/>
            <a:ext cx="35697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09A0-DAAF-48E8-821D-7F9EAD21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35697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1680" y="2286000"/>
            <a:ext cx="35697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1680" y="4156920"/>
            <a:ext cx="35697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434D-5357-4EFE-B8C3-A3794E3B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35697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1680" y="2286000"/>
            <a:ext cx="35697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4156920"/>
            <a:ext cx="7315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08C3-1619-451C-B55A-4FD655B5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2286000"/>
            <a:ext cx="7315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8120" y="6248520"/>
            <a:ext cx="1792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94000" y="6248520"/>
            <a:ext cx="272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65400" y="6248520"/>
            <a:ext cx="1792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93DB-1A07-487D-AB67-6CB66E363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265400" y="1701720"/>
            <a:ext cx="111312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rainbow_title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3000" y="2286000"/>
            <a:ext cx="7315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8E15-6C86-4ACA-92EC-8AC28E33F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7640" y="2852280"/>
            <a:ext cx="6096240" cy="18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ff0000"/>
                </a:solidFill>
                <a:latin typeface="Arial"/>
              </a:rPr>
              <a:t>O palhaço Tristole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3276720" y="333360"/>
            <a:ext cx="2592360" cy="2577960"/>
          </a:xfrm>
          <a:prstGeom prst="rect">
            <a:avLst/>
          </a:prstGeom>
          <a:ln w="31680">
            <a:solidFill>
              <a:srgbClr val="ff0000"/>
            </a:solidFill>
            <a:miter/>
          </a:ln>
        </p:spPr>
      </p:pic>
      <p:sp>
        <p:nvSpPr>
          <p:cNvPr id="86" name="CaixaDeTexto 3"/>
          <p:cNvSpPr/>
          <p:nvPr/>
        </p:nvSpPr>
        <p:spPr>
          <a:xfrm>
            <a:off x="642960" y="6334200"/>
            <a:ext cx="721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História adaptada a partir do livro “</a:t>
            </a:r>
            <a:r>
              <a:rPr b="0" i="1" lang="pt-PT" sz="1400" spc="-1" strike="noStrike">
                <a:solidFill>
                  <a:srgbClr val="000000"/>
                </a:solidFill>
                <a:latin typeface="Arial"/>
              </a:rPr>
              <a:t>O palhaço Tristoleto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” de Lourdes Custódio (Gailivro) por Maria Jesus Sousa - Ju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821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ra uma vez um palhaço muito engraçado – usava calções que segurava com uns suspensórios e uma camisa com mil cores e grandes botões! Tinha um nariz abatatado, pintado de vermelho e a sua cara branca estava emoldurada por uma farta cabeleira verde. Chamava-se Tristol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1"/>
          <p:cNvPicPr/>
          <p:nvPr/>
        </p:nvPicPr>
        <p:blipFill>
          <a:blip r:embed="rId1"/>
          <a:stretch/>
        </p:blipFill>
        <p:spPr>
          <a:xfrm>
            <a:off x="2843280" y="1628640"/>
            <a:ext cx="3979800" cy="4738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77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as o Tristoleto tinha um problema… é verdade! 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ristoleto era um palhaço triste! A sério, não conseguia rir…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o palco dava cambalhotas, tocava flauta, falava alto e fazia disparates com piada. Conseguia por as crianças a rir à gargalhad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2"/>
          <p:cNvPicPr/>
          <p:nvPr/>
        </p:nvPicPr>
        <p:blipFill>
          <a:blip r:embed="rId1"/>
          <a:stretch/>
        </p:blipFill>
        <p:spPr>
          <a:xfrm>
            <a:off x="2124000" y="1500120"/>
            <a:ext cx="5461200" cy="5192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as, logo que o espectáculo acabava, Tristoleto ficava com uma cara tristonha… nem parecia o mesm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3"/>
          <p:cNvPicPr/>
          <p:nvPr/>
        </p:nvPicPr>
        <p:blipFill>
          <a:blip r:embed="rId1"/>
          <a:stretch/>
        </p:blipFill>
        <p:spPr>
          <a:xfrm>
            <a:off x="3492360" y="903240"/>
            <a:ext cx="2936880" cy="5550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4"/>
          <p:cNvPicPr/>
          <p:nvPr/>
        </p:nvPicPr>
        <p:blipFill>
          <a:blip r:embed="rId1"/>
          <a:stretch/>
        </p:blipFill>
        <p:spPr>
          <a:xfrm>
            <a:off x="2124000" y="1428840"/>
            <a:ext cx="5162760" cy="52401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71720" y="142920"/>
            <a:ext cx="785808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Um dia, resolveu descansar à porta do circo. Deitou-se no chão e descalçou os sapatões. Tinha mesmo acabado de adormecer, quando por ali passou uma palhacita de vestido às bolas e suspensórios às riscas. Tinha uma borboleta pintada na bochecha e o seu cabelo às cores parecia o arco-íris. Como era muito bem disposta, começou a fazer cócegas nos pés do Tristoleto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6000" y="142560"/>
            <a:ext cx="802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ristoleto não percebia o que se passava, mas começou a rir… e quanto mais se ria, mais cócegas ela lhe fazia! Graças à palhacita Risoleta, a partir deste dia Tristoleto ficou curado. E foi a rir que ele a convidou para ficar no circ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5"/>
          <p:cNvPicPr/>
          <p:nvPr/>
        </p:nvPicPr>
        <p:blipFill>
          <a:blip r:embed="rId1"/>
          <a:stretch/>
        </p:blipFill>
        <p:spPr>
          <a:xfrm>
            <a:off x="2050920" y="1484280"/>
            <a:ext cx="5605560" cy="5154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67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a aceitou, tornaram-se grandes amigos e nunca mais se separaram.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té já me disseram que são namorados…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cham que será verdade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6"/>
          <p:cNvPicPr/>
          <p:nvPr/>
        </p:nvPicPr>
        <p:blipFill>
          <a:blip r:embed="rId1"/>
          <a:stretch/>
        </p:blipFill>
        <p:spPr>
          <a:xfrm>
            <a:off x="2286000" y="1143000"/>
            <a:ext cx="5467320" cy="5429160"/>
          </a:xfrm>
          <a:prstGeom prst="rect">
            <a:avLst/>
          </a:prstGeom>
          <a:ln w="0">
            <a:noFill/>
          </a:ln>
        </p:spPr>
      </p:pic>
      <p:pic>
        <p:nvPicPr>
          <p:cNvPr id="99" name="Imagem 3" descr="gse_multipart9433.jpg"/>
          <p:cNvPicPr/>
          <p:nvPr/>
        </p:nvPicPr>
        <p:blipFill>
          <a:blip r:embed="rId2"/>
          <a:stretch/>
        </p:blipFill>
        <p:spPr>
          <a:xfrm>
            <a:off x="7786800" y="1143000"/>
            <a:ext cx="1106280" cy="1666800"/>
          </a:xfrm>
          <a:prstGeom prst="rect">
            <a:avLst/>
          </a:prstGeom>
          <a:ln w="0">
            <a:noFill/>
          </a:ln>
        </p:spPr>
      </p:pic>
      <p:pic>
        <p:nvPicPr>
          <p:cNvPr id="100" name="Imagem 4" descr="gse_multipart9435.jpg"/>
          <p:cNvPicPr/>
          <p:nvPr/>
        </p:nvPicPr>
        <p:blipFill>
          <a:blip r:embed="rId3"/>
          <a:stretch/>
        </p:blipFill>
        <p:spPr>
          <a:xfrm>
            <a:off x="1143000" y="2643120"/>
            <a:ext cx="1084320" cy="1785960"/>
          </a:xfrm>
          <a:prstGeom prst="rect">
            <a:avLst/>
          </a:prstGeom>
          <a:ln w="0">
            <a:noFill/>
          </a:ln>
        </p:spPr>
      </p:pic>
      <p:pic>
        <p:nvPicPr>
          <p:cNvPr id="101" name="Imagem 6" descr="a b c.gif"/>
          <p:cNvPicPr/>
          <p:nvPr/>
        </p:nvPicPr>
        <p:blipFill>
          <a:blip r:embed="rId4"/>
          <a:stretch/>
        </p:blipFill>
        <p:spPr>
          <a:xfrm>
            <a:off x="4572000" y="1285920"/>
            <a:ext cx="1152360" cy="106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2560"/>
            <a:ext cx="77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ois é mesmo! E agora que o Dia dos Namorados está quase a chegar, Tristoleto já preparou a sua surpresa para a namorada: 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a bonita carta de amor... E foi logo pô-la na caixa do correi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SO02018_"/>
          <p:cNvPicPr/>
          <p:nvPr/>
        </p:nvPicPr>
        <p:blipFill>
          <a:blip r:embed="rId1"/>
          <a:stretch/>
        </p:blipFill>
        <p:spPr>
          <a:xfrm>
            <a:off x="1357200" y="2643120"/>
            <a:ext cx="1695600" cy="1871640"/>
          </a:xfrm>
          <a:prstGeom prst="rect">
            <a:avLst/>
          </a:prstGeom>
          <a:ln w="0">
            <a:noFill/>
          </a:ln>
        </p:spPr>
      </p:pic>
      <p:pic>
        <p:nvPicPr>
          <p:cNvPr id="104" name="Imagem 4" descr="Sem título.JPG"/>
          <p:cNvPicPr/>
          <p:nvPr/>
        </p:nvPicPr>
        <p:blipFill>
          <a:blip r:embed="rId2"/>
          <a:stretch/>
        </p:blipFill>
        <p:spPr>
          <a:xfrm>
            <a:off x="3143160" y="1285920"/>
            <a:ext cx="3753000" cy="5324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142560"/>
            <a:ext cx="7777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 a carta dizia assi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 rot="20455800">
            <a:off x="2923920" y="915480"/>
            <a:ext cx="3743280" cy="4535640"/>
          </a:xfrm>
          <a:prstGeom prst="rect">
            <a:avLst/>
          </a:prstGeom>
          <a:blipFill rotWithShape="0">
            <a:blip r:embed="rId1">
              <a:alphaModFix amt="2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ara a minha queri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isolet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Gosto muito de e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tigo porque 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fazes ri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ando-te muitos beijinh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este Dia dos Namor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Tristole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7358040" y="2786040"/>
            <a:ext cx="1011240" cy="5000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F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aixaDeTexto 4"/>
          <p:cNvSpPr/>
          <p:nvPr/>
        </p:nvSpPr>
        <p:spPr>
          <a:xfrm>
            <a:off x="1071720" y="6357960"/>
            <a:ext cx="721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História adaptada a partir do livro “</a:t>
            </a:r>
            <a:r>
              <a:rPr b="0" i="1" lang="pt-PT" sz="1400" spc="-1" strike="noStrike">
                <a:solidFill>
                  <a:srgbClr val="000000"/>
                </a:solidFill>
                <a:latin typeface="Arial"/>
              </a:rPr>
              <a:t>O palhaço Tristoleto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” de Lourdes Custódio (Gailivro) por Maria Jesus Sousa - Ju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7:52:36Z</dcterms:created>
  <dc:creator>David</dc:creator>
  <dc:description/>
  <dc:language>en-US</dc:language>
  <cp:lastModifiedBy>david</cp:lastModifiedBy>
  <dcterms:modified xsi:type="dcterms:W3CDTF">2009-02-07T00:05:32Z</dcterms:modified>
  <cp:revision>7</cp:revision>
  <dc:subject/>
  <dc:title>O palhaço Tristoleto</dc:title>
</cp:coreProperties>
</file>