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3F8A-BEBA-4C06-AF8F-F002936EA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704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F200-1F4B-441F-A64E-66901852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704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D122-4808-43E3-95DE-68515DB85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704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2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54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0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2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54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98DB-3F65-4BFE-8D41-1C101A17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704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D3D7-8A62-49F7-86A3-C2C0C977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704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99B2-7870-49CD-9355-18C73E65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704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03C2-36DE-4E8D-9664-0A2D5BCA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704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7501-71FB-4422-BEA1-3981E26C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080" y="75960"/>
            <a:ext cx="617040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9C1B-BAED-4566-B9ED-C64C294B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704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3F17-3532-4552-943F-679AD49E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704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C5CC-4F6A-48BC-9472-E57882A1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704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46B0-1CB9-4E20-8B60-4081EC66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704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080"/>
            <a:ext cx="2170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7CB942-48B3-4DC7-9593-2795B67DD42D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50920"/>
            <a:ext cx="6867360" cy="854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6858000" cy="846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68360"/>
            <a:ext cx="6859440" cy="853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6000"/>
            <a:ext cx="6842160" cy="853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395280"/>
            <a:ext cx="6843600" cy="853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uno</dc:creator>
  <dc:description/>
  <dc:language>en-US</dc:language>
  <cp:lastModifiedBy>Bruno</cp:lastModifiedBy>
  <cp:revision>0</cp:revision>
  <dc:subject/>
  <dc:title>Diapositivo 1</dc:title>
</cp:coreProperties>
</file>